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8233-2995-464C-80D9-FC0C57A67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AA96-6107-48EC-BF7C-D165D19D21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UVOD:Obitelj je za dijete svijet u malom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U prvim godinama života njegovi interesi, želje i potrebe ne izlaze iz obiteljskih okvir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Obitelj je prva škola socijalnih dodira, izvorište prvih pojmova o svijetu, životu i radu, odnosu prema ljudim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U obitelji dijete provodi najveći dio svog života okruženo toplinom, njegom i ljubavlj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Obitelj je  najprirodnije i najutjecajnije  djetetovo okruženj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Odgoj u obitelji je pedagoški proces koji se ostvaruje pod utjecajem cjelokupnog njezinog načina života i rada, osjećajne povezanosti, svakodnevnih situacija količine  i kakvoće ukupnih odnosa u njoj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Obiteljski odgoj je prvi i temeljni odgoj koji društvo pruža djetetu.On se ničime ne može zamijeniti ni nadoknadit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ko je dijete steklo osjećaj da ga ljudi iz neposredne okoline vole,poštuju,i prihvaćaju, onda ima sve preduvjete da se kvalitetno postavlja i zdravo odnosi prema svim okružjima i ljudima s kojima će u odrasloj dobi komunicirati i surađivati i raditi.Isto tako, bit će nepovjerljivo, egocentrično, nesigurno, cinično, nasilno, nezainteresirano, ako je u svojoj obitelji bilo omalovažavano, zlostavljano, odbačeno, zapostavljeno, nevoljeno, prikraćivano u ljubavi, pozitivnim uzorim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Roditeljska uloga u odgoju je vrlo osjetljiva, složena, odgovorna, naporna i dugotraj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Za nju nisu svi jednako spremni niti osposobljeni, pa se nerijetko suočavaju s problemima za čije rješavanje im je potrebna pomoć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Djeca dolaze u školu sa velikim predznanjem koje su stekla u svojim obiteljim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Tradicionalna nastava podrazumijevala je podučavanje u kojem je učitelj podučavao-prenosio znanje učenicima, a zatim provjeravao stupanj usvojenosti gradiva. Roditelji su dobijali informaciju o uspjehu i tako se suradnja svodila na individualne razgovore i roditeljske sastanke. U središtu pozornosti nije bio sam učenik, nego nastavni program kojega je trebalo realizirat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0157-38DA-41E7-9ACB-2C5937E9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2A76-2174-4456-80C6-B1E61A2F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56A5-E516-474C-84FF-A64FD36A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5883-D13B-4D43-885F-306426CE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99AB-C9F5-48E8-A43B-FDF72212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1C1C-9858-4D74-BC76-4B374BB8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C587-83C3-451C-9AA9-8D453535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8B11-3F65-4CC9-BE4A-8FD1A193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D4A4-1E40-4355-ADDD-731BBC58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456A-14A9-4747-B597-E55FF631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21B7-E740-4E87-AE98-8F719231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33A-F19A-4121-8117-ABDF60EC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4BDB-EAEB-4B03-B2A5-C75333B9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236C-B9D0-45CA-A18F-7B0E6DED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92AB-B1E3-4764-AB1D-578BB8A1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FC6C-C1B8-4DA3-B9B9-B51AC05D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0CA9-99DD-4656-BF37-2B7FE4AA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FE1F-5239-4BE4-AC5A-74967459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B04C-0BB1-4A47-8F55-3897B355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3BB9-182E-4C10-9DBA-1CE9DF96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B109-CB3A-419D-9859-FF58BBC5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6521-A2DD-4146-956E-9C0F1E2E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2D48-E5E0-4617-A85C-9473F744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C15C-94A6-42BE-9D4A-8D745492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7F52-FBB5-4C4F-9DFF-F1BD505C2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1CB1-B743-479C-8581-D6F163F7A8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800" spc="-1" strike="noStrike">
                <a:solidFill>
                  <a:srgbClr val="ffffb7"/>
                </a:solidFill>
                <a:latin typeface="Monotype Corsiva"/>
              </a:rPr>
              <a:t>KORACI K USPJEŠNOM RODITELJSKOM</a:t>
            </a:r>
            <a:r>
              <a:rPr b="1" lang="hr-HR" sz="4800" spc="-1" strike="noStrike">
                <a:solidFill>
                  <a:srgbClr val="ffffb7"/>
                </a:solidFill>
                <a:latin typeface="Monotype Corsiva"/>
              </a:rPr>
              <a:t> SASTANKU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DSC01341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b7"/>
                </a:solidFill>
                <a:latin typeface="Arial Black"/>
              </a:rPr>
              <a:t>ULOGA UČITELJ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OBAR DOMAĆ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RGANIZATOR PROSTORA I VREME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VODITELJ AKTIV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UVAŽAVA INDIVIDUAL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TVARA UGODNO I RADNO OZRAČ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AJE UPUTE,POJAŠNJAVA I POMAŽ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5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Picture 005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b7"/>
                </a:solidFill>
                <a:latin typeface="Arial Black"/>
              </a:rPr>
              <a:t>ODLIKE DOBROG UČITELJ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80074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Zna podijeliti iskust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ma dobar kontakt oč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ma smisao za hum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ma visoka očekiva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Dobar je slušatel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Daje jasne  upute , prilagođava g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Empatičan , samokritičan i spon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oštuje različita glediš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ma visoko zn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ovjerljiv je i pouzd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5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5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5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5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5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9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b7"/>
                </a:solidFill>
                <a:latin typeface="Arial Black"/>
              </a:rPr>
              <a:t>TIPOVI RODITELJSKIH SASTANAK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EDAVAČ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GLED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ADIONIČ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RUŽENJE DJECE I ODRASLI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5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DSC01342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1166760" y="404640"/>
            <a:ext cx="25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PREDAVAČ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DSC01343"/>
          <p:cNvPicPr/>
          <p:nvPr/>
        </p:nvPicPr>
        <p:blipFill>
          <a:blip r:embed="rId1"/>
          <a:stretch/>
        </p:blipFill>
        <p:spPr>
          <a:xfrm>
            <a:off x="-1523880" y="-784080"/>
            <a:ext cx="11712600" cy="8785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1671480" y="549360"/>
            <a:ext cx="59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ff"/>
                </a:solidFill>
                <a:latin typeface="Arial"/>
              </a:rPr>
              <a:t>RADIONIČK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b7"/>
                </a:solidFill>
                <a:latin typeface="Arial Black"/>
              </a:rPr>
              <a:t>STRUKTURA RODITELJSKOG SASTANK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Uvodne aktivnosti za zagrijavanje i opuštanje atmosfere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286000" y="2421000"/>
            <a:ext cx="4572000" cy="42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aje uvod u sadrža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aje pregled sadrža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Temelj je dobre atmosf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sigurava upoznava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zgrađuje povjerenje i osjećaj    zajedništ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zgrađuje prisniji od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aje mentalnu i fizičku energij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ivlači pažnju i usmjera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obro motivi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99ff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b7"/>
                </a:solidFill>
                <a:latin typeface="Arial Black"/>
              </a:rPr>
              <a:t>Glavni- tematski dio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Najava t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odjela na skupine / par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Zadati vrij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Jasne upute za r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sigurati materijal za r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omoć skupin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oticati i ohrabrivati na aktiv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Bilježiti zajedničke zaključ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ohvaliti rad svih skupina i pojedina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500"/>
                            </p:stCondLst>
                            <p:childTnLst>
                              <p:par>
                                <p:cTn id="38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0"/>
                            </p:stCondLst>
                            <p:childTnLst>
                              <p:par>
                                <p:cTn id="38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DSC01346"/>
          <p:cNvPicPr/>
          <p:nvPr/>
        </p:nvPicPr>
        <p:blipFill>
          <a:blip r:embed="rId1"/>
          <a:stretch/>
        </p:blipFill>
        <p:spPr>
          <a:xfrm>
            <a:off x="-2052720" y="-2017800"/>
            <a:ext cx="15409800" cy="10450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zervirano mjesto broja slajda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FE49-A91B-4EAC-AA9F-311B869DD3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b7"/>
                </a:solidFill>
                <a:latin typeface="Arial Black"/>
              </a:rPr>
              <a:t>Uvo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89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bitelj je za dijete svijet u mal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biteljski odgoj je prvi i temeljni odgoj koji društvo pruža djete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Roditeljska uloga u odgoju je vrlo osjetljiva, složena, odgovorna, naporna i dugotraj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Roditelji se često suočavaju s problemima u odgoj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Dobra suradnja učitelja  i roditelja može pomoći u rješavanju probl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b7"/>
                </a:solidFill>
                <a:latin typeface="Arial Black"/>
              </a:rPr>
              <a:t>Glavni- tematski dio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700280"/>
            <a:ext cx="80074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EDAVANJ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IKAZ 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ASPRAVA U MALIM SKUPINA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EBA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LUJA IDEJ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IGRANJE ULOG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43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8" descr="M1"/>
          <p:cNvPicPr/>
          <p:nvPr/>
        </p:nvPicPr>
        <p:blipFill>
          <a:blip r:embed="rId1"/>
          <a:stretch/>
        </p:blipFill>
        <p:spPr>
          <a:xfrm>
            <a:off x="-1523880" y="-603360"/>
            <a:ext cx="12191760" cy="86043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9"/>
          <p:cNvSpPr/>
          <p:nvPr/>
        </p:nvSpPr>
        <p:spPr>
          <a:xfrm>
            <a:off x="1166760" y="333360"/>
            <a:ext cx="77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RASPRAVA U MALIM SKUPINA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Picture 004"/>
          <p:cNvPicPr/>
          <p:nvPr/>
        </p:nvPicPr>
        <p:blipFill>
          <a:blip r:embed="rId1"/>
          <a:stretch/>
        </p:blipFill>
        <p:spPr>
          <a:xfrm>
            <a:off x="-2413080" y="476280"/>
            <a:ext cx="13538160" cy="9882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 flipV="1" rot="10800000">
            <a:off x="5579640" y="2204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OLUJA IDE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b7"/>
                </a:solidFill>
                <a:latin typeface="Arial Black"/>
              </a:rPr>
              <a:t>ZAVRŠETAK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OČITAJTE PRIČ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OČITAJTE LIJEPU MIS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OČITAJTE DJEČJI URAD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ZAIGRAJTE IG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OVEDITE VOĐENU MEDITACIJ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SVRT NA SASTAN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EVALUACIJSKI LIST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400"/>
                            </p:stCondLst>
                            <p:childTnLst>
                              <p:par>
                                <p:cTn id="44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400"/>
                            </p:stCondLst>
                            <p:childTnLst>
                              <p:par>
                                <p:cTn id="45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8500"/>
                            </p:stCondLst>
                            <p:childTnLst>
                              <p:par>
                                <p:cTn id="45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700"/>
                            </p:stCondLst>
                            <p:childTnLst>
                              <p:par>
                                <p:cTn id="46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4100"/>
                            </p:stCondLst>
                            <p:childTnLst>
                              <p:par>
                                <p:cTn id="47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7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b7"/>
                </a:solidFill>
                <a:latin typeface="Arial Black"/>
              </a:rPr>
              <a:t>Sistematizacija i evaluacij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16280"/>
            <a:ext cx="80074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3 stvari koje sam naučio/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2 stvari koje ću podijeliti s drug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1 stvar koju ću odmah učini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5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ff"/>
                </a:solidFill>
                <a:latin typeface="Arial"/>
              </a:rPr>
              <a:t>AKO SI DRUGAČIJI OD  DRUGIH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hr-HR" sz="4000" spc="-1" strike="noStrike">
                <a:solidFill>
                  <a:srgbClr val="ffffff"/>
                </a:solidFill>
                <a:latin typeface="Arial"/>
              </a:rPr>
              <a:t>ZNAČI DA SI POSEBAN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b7"/>
                </a:solidFill>
                <a:latin typeface="Arial Black"/>
              </a:rPr>
              <a:t>USPJEŠNA VEZA</a:t>
            </a:r>
            <a:br>
              <a:rPr sz="4400"/>
            </a:br>
            <a:r>
              <a:rPr b="1" lang="hr-HR" sz="4400" spc="-1" strike="noStrike">
                <a:solidFill>
                  <a:srgbClr val="ffffb7"/>
                </a:solidFill>
                <a:latin typeface="Arial Black"/>
              </a:rPr>
              <a:t>RODITELJ-ŠKOL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2421000"/>
            <a:ext cx="800748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Arial"/>
              </a:rPr>
              <a:t>1. dosljedna i jasna dvosmjerna       komunikacija- individualni razgovo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Arial"/>
              </a:rPr>
              <a:t>2. dobro organizirani roditeljski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r-HR" sz="3200" spc="-1" strike="noStrike">
                <a:solidFill>
                  <a:srgbClr val="ffffff"/>
                </a:solidFill>
                <a:latin typeface="Arial"/>
              </a:rPr>
              <a:t>sastan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hr-HR" sz="4400" spc="-1" strike="noStrike">
                <a:solidFill>
                  <a:srgbClr val="ffffb7"/>
                </a:solidFill>
                <a:latin typeface="Arial Black"/>
              </a:rPr>
              <a:t>RODITELJI     UČITELJ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Što očekujete kao sudionici odgojno –obrazovnog procesa od roditeljskih sastanaka i učitelj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1640" y="1904760"/>
            <a:ext cx="4273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Što očekujete kao učitelji od roditelja u ostvarivanju dobre suradnje na roditeljskim sastancim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800" spc="-1" strike="noStrike">
                <a:solidFill>
                  <a:srgbClr val="ffffb7"/>
                </a:solidFill>
                <a:latin typeface="Monotype Corsiva"/>
              </a:rPr>
              <a:t>KORACI K USPJEŠNOM RODITELJSKOM</a:t>
            </a:r>
            <a:r>
              <a:rPr b="1" lang="hr-HR" sz="4800" spc="-1" strike="noStrike">
                <a:solidFill>
                  <a:srgbClr val="ffffb7"/>
                </a:solidFill>
                <a:latin typeface="Monotype Corsiva"/>
              </a:rPr>
              <a:t> SASTANKU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5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b7"/>
                </a:solidFill>
                <a:latin typeface="Arial Black"/>
              </a:rPr>
              <a:t>DOBRA TEMATSKA PRIPREMA UČITELJ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OBAR IZBOR T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( sastav ro, poteškoće u radu s djeco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dnosi u obitelji, učenje,ponašanje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INTERESI I POTREBE RODITEL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BRAZOVANJE RODITEL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VLASTITE SPOSOB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b7"/>
                </a:solidFill>
                <a:latin typeface="Arial Black"/>
              </a:rPr>
              <a:t>PISMENI POZIV RODITELJIM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NADNEVAK I VRIJEME ODRŽAV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VRIJEME TRAJ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MJESTO ODRŽAV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NAZIV TEME ILI DNEVNI 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OTPIS UČITELJ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b7"/>
                </a:solidFill>
                <a:latin typeface="Arial Black"/>
              </a:rPr>
              <a:t>PRIMJER POZIV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80808"/>
                </a:solidFill>
                <a:latin typeface="Lucida Calligraphy"/>
              </a:rPr>
              <a:t>	</a:t>
            </a:r>
            <a:r>
              <a:rPr b="1" lang="hr-HR" sz="2400" spc="-1" strike="noStrike">
                <a:solidFill>
                  <a:srgbClr val="080808"/>
                </a:solidFill>
                <a:latin typeface="Lucida Calligraphy"/>
              </a:rPr>
              <a:t>Dragi roditelji__________________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80808"/>
                </a:solidFill>
                <a:latin typeface="Lucida Calligraphy"/>
              </a:rPr>
              <a:t>	</a:t>
            </a:r>
            <a:r>
              <a:rPr b="1" lang="hr-HR" sz="2400" spc="-1" strike="noStrike">
                <a:solidFill>
                  <a:srgbClr val="080808"/>
                </a:solidFill>
                <a:latin typeface="Lucida Calligraphy"/>
              </a:rPr>
              <a:t>        </a:t>
            </a:r>
            <a:r>
              <a:rPr b="1" lang="hr-HR" sz="2400" spc="-1" strike="noStrike">
                <a:solidFill>
                  <a:srgbClr val="080808"/>
                </a:solidFill>
                <a:latin typeface="Lucida Calligraphy"/>
              </a:rPr>
              <a:t>Pozivam Vas na roditeljski sastanak 1o.11.2007.u 17.00 sati u učionicu našeg razrednog odjela.Upoznat ćemo se s temom „Kako pomoći djetetu u pisanju domaćih uradaka“.Radit ćemo u radionici koja će trajati 60 m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80808"/>
                </a:solidFill>
                <a:latin typeface="Lucida Calligraphy"/>
              </a:rPr>
              <a:t>	</a:t>
            </a:r>
            <a:r>
              <a:rPr b="1" lang="hr-HR" sz="2400" spc="-1" strike="noStrike">
                <a:solidFill>
                  <a:srgbClr val="080808"/>
                </a:solidFill>
                <a:latin typeface="Lucida Calligraphy"/>
              </a:rPr>
              <a:t>Dođite ,razmijenite svoja iskustva s drugim roditeljima i saznajte nešto no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80808"/>
                </a:solidFill>
                <a:latin typeface="Lucida Calligraphy"/>
              </a:rPr>
              <a:t>                                                                                                        </a:t>
            </a:r>
            <a:r>
              <a:rPr b="1" lang="hr-HR" sz="2400" spc="-1" strike="noStrike">
                <a:solidFill>
                  <a:srgbClr val="080808"/>
                </a:solidFill>
                <a:latin typeface="Lucida Calligraphy"/>
              </a:rPr>
              <a:t>	</a:t>
            </a:r>
            <a:r>
              <a:rPr b="1" lang="hr-HR" sz="2400" spc="-1" strike="noStrike">
                <a:solidFill>
                  <a:srgbClr val="080808"/>
                </a:solidFill>
                <a:latin typeface="Lucida Calligraphy"/>
              </a:rPr>
              <a:t>	</a:t>
            </a:r>
            <a:r>
              <a:rPr b="1" lang="hr-HR" sz="2400" spc="-1" strike="noStrike">
                <a:solidFill>
                  <a:srgbClr val="080808"/>
                </a:solidFill>
                <a:latin typeface="Lucida Calligraphy"/>
              </a:rPr>
              <a:t>	</a:t>
            </a:r>
            <a:r>
              <a:rPr b="1" lang="hr-HR" sz="2400" spc="-1" strike="noStrike">
                <a:solidFill>
                  <a:srgbClr val="080808"/>
                </a:solidFill>
                <a:latin typeface="Lucida Calligraphy"/>
              </a:rPr>
              <a:t>Vaša učiteljica</a:t>
            </a:r>
            <a:r>
              <a:rPr b="1" lang="hr-HR" sz="2400" spc="-1" strike="noStrike">
                <a:solidFill>
                  <a:srgbClr val="ff0000"/>
                </a:solidFill>
                <a:latin typeface="Lucida Calligraphy"/>
              </a:rPr>
              <a:t>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b7"/>
                </a:solidFill>
                <a:latin typeface="Arial Black"/>
              </a:rPr>
              <a:t>MJESTO I VRIJEME ODRŽAVANJA RODITELJSKOG SASTANK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UČION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ASPORED STOLOVA I STOL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ADNI MATERIJ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REDSTVA I POMAGA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VRIJEME- PRILAGODITI RODITELJ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ULJINA SASTANKA: OD 45 MIN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MAKSIMALNO 90 M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8:16:22Z</dcterms:created>
  <dc:creator>Melita Lesić</dc:creator>
  <dc:description/>
  <dc:language>en-US</dc:language>
  <cp:lastModifiedBy>Višnja</cp:lastModifiedBy>
  <dcterms:modified xsi:type="dcterms:W3CDTF">2009-10-24T18:35:29Z</dcterms:modified>
  <cp:revision>5</cp:revision>
  <dc:subject/>
  <dc:title>KORACI K USPJEŠNOM RODITELJSKOM SASTANKU</dc:title>
</cp:coreProperties>
</file>